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E552-A1C8-4F94-A4F4-2FBD561FB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790B-8398-4345-BC14-012687C59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2577-B138-4BFB-9C74-B58C1122A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4B8-E7E1-49BA-A714-1ACE5D6B5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3CFA-6764-4E1C-914F-B3E833D17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99C-CE8B-4DEE-87DD-5CD54039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8E6-3044-41B5-BEB0-AB5BF601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AEE-24C8-4312-84FF-C5F6B36B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D6A-C873-4A04-9DB3-2E122CBF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B8D-D5E0-48B3-950A-C6439D2E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3FB9-F85A-459F-9D7C-F54FDA71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62C9-D0EB-47AA-8DEB-1909F2F8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DD09-C039-4641-8231-BBA4E13C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8FDA-82BC-411F-BBFC-59E6A797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972-B2AC-4E8A-ABF1-C30A23A8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F1E9-F69D-4BFD-BCF7-2588E94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D79-F525-4C5B-86AE-D6AC7AD4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BFDB-6EDC-4F71-8BBA-DAA93CC7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8EFD-A1FC-4420-8663-1B8F40ED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A56B-1844-44F8-BB24-4D3DF8CE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6109-77BC-4239-BE59-459FD4F5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DB23-E6F3-4669-B63D-F7DA6C22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3887-AFC3-46EC-B6C3-9714F5B1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A6D7-3027-424B-B118-77142E3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5E9A-4B47-44F2-B6DD-7E0A2862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A986-E1C5-4F05-A277-C3484A9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59B7-5AC5-4CB6-81DA-2E43F6B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87D-0213-47BA-9AD3-7A8D8D99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C3E3-209D-41CF-9F86-08844D83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AEE3-5216-44ED-9949-E174FAE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6A7B-9576-498A-A8AE-12A6714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B21F-10D3-4C56-B941-7CCA88C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4FE7-12E1-4806-AED3-D22370A0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9DFC-C2C3-4174-8C09-8DD063A8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136B-F59D-4603-A26B-CA383C2C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8EA0-6B2A-47C8-B8B5-0E7E6520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CE3AD-DBEC-4E1C-BAD6-3DE4851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1611-E0A4-4AAE-BFCE-11CD9C9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089-211A-4230-934B-EAF11CB3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FFBB-B9B3-4B57-A357-0E2B2275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9564-D054-4506-A533-6F6DD2F8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108C-69F3-40BD-86F9-D7A3885E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3D7B-D057-4867-802C-030F516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2D2C-D12D-471F-9BFB-C99E2D1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A244-4D15-4A55-844B-CC995EA5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D97F-3B7D-437D-A59C-8DF15BE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6608-F922-4741-9086-B9E533A3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0842-F73D-4D92-8637-2A498BD6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C3FF-577C-4299-B1B0-859281E0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E4B-FA49-4934-964F-A895096E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8FC0-5A04-4864-BF28-4181041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6DAF-22FB-4790-B21D-EB119538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BF8C-2FA2-4E15-96AF-F4BABA9C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19F07-C092-461E-AC87-F5087C9D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1F7C-291E-4373-B093-9F993064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4DF1-2A87-4714-9278-78C832D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E7BD-E9AF-44C5-93E4-5ECF924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50038-E531-42D4-958D-FD12E9E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875B1-CA13-4E53-A51D-022B0034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76363-4E5D-4244-A316-CA06F1FE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828-C9BF-43C7-967F-EDBFD5D6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A532-FC57-4AA5-9641-D95BA943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8D7-14E1-45F1-A8A9-8626F512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A02-E70E-4EC7-9477-B6813C9B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3ED-8C9A-46CC-B6F4-FF282EA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03B3-0DA1-47B1-9A6C-79AEAF7D32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5866-B4D2-4851-B9C9-A956CB1B06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2E74-63B6-4A0D-82AD-14F1C60FF9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DCE5-0809-4D8B-99B2-0C2F7975EA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617-A664-4C76-A030-E4DC77C341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Poetry of the Peop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ll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ong or songlike poem that tells a story in a regular pattern of rhythm and rhyme and uses simple, direct langu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e from an oral trad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strict rules dictating their fo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es from an Old French word meaning “dancing song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eliques of Ancient English Poet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collection of ballads gathered by Thomas Percy and published in 176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spired others to collect ballads from the people who sang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jects of ballads – the everyday life of common fol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ernatural ev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nsational, sordid, or tragic subject mat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istics of 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mple and dir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tle or no backgrou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-and-answer format – details are gathered little by little from the answers; helps build suspen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rain – repetition of the last line or tw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cremental repetition – repetition of previous lines with slight vari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ical – meant to be sung for a general audience; strong, simple be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ventional phrases – understood by listeners to have meanings beyond the literal ones (ex. “Make my bed soon”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3:38:02Z</dcterms:created>
  <dc:creator>pcoles</dc:creator>
  <dc:description/>
  <dc:language>en-US</dc:language>
  <cp:lastModifiedBy>Trina Vest</cp:lastModifiedBy>
  <dcterms:modified xsi:type="dcterms:W3CDTF">2010-09-03T12:06:45Z</dcterms:modified>
  <cp:revision>6</cp:revision>
  <dc:subject/>
  <dc:title>Ballads</dc:title>
</cp:coreProperties>
</file>